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035-636D-489D-B8BA-F64574E3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5BF-C12B-4A3F-9FBF-A26BDA62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72D-D11A-49EC-A0CA-4A1B81C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5D9-BCD0-48BF-8D8C-473D60DF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2835-1A0E-4A73-8556-F831CAEA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3C54-192E-4C07-928C-291F0F9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AE12-3EC5-428A-8FF8-15DBFEE4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B5A-3154-4F55-B18B-C4F5AE9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BEE3-3BB7-4DB4-A6EB-1EF58903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D4DC-53DE-42D7-9F8A-5D57097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BCDB-913B-4304-B840-D7FC4AC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2E1-E534-49CF-A2F5-141AE8E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516-CC4F-4C60-ADA7-2945957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DD4F-9BCF-42A5-876F-9C97BFF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1B07-9F4D-4607-88F8-3617209D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D3C-90A0-4068-8064-BA23D28E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AB9C-6C9A-4959-9746-79BB7B92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A54-2973-4550-84E0-11B57734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4A6-B2D4-4B9B-99E6-3E8D95E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E34-17D1-4066-A7D2-6548E99C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63F-D18E-4B19-8C78-21065B13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8AA-6FAB-4A98-BA04-67506D7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FF5-B8FB-4944-88D8-F66B5CE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CA2-1297-4181-B9B9-65CECD4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1346-0510-404C-AB60-9780FB4A9E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530A-EC35-4BE3-BBF0-43AB5C5FEDB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循环移位与移位指令、编解码指令等常用功能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使用常用功能指令进行彩灯循环控制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开发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彩灯循环控制应用系统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1840" y="14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硬件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3591" r="0" b="1437"/>
          <a:stretch/>
        </p:blipFill>
        <p:spPr>
          <a:xfrm>
            <a:off x="5394240" y="3068640"/>
            <a:ext cx="37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408720" cy="262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5013360"/>
            <a:ext cx="1943280" cy="1413000"/>
          </a:xfrm>
          <a:prstGeom prst="wedgeRoundRectCallout">
            <a:avLst>
              <a:gd name="adj1" fmla="val 6537"/>
              <a:gd name="adj2" fmla="val -80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继电器接触器控制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1656000" cy="1440000"/>
          </a:xfrm>
          <a:prstGeom prst="wedgeRoundRectCallout">
            <a:avLst>
              <a:gd name="adj1" fmla="val 99666"/>
              <a:gd name="adj2" fmla="val 2883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8000" y="2276640"/>
            <a:ext cx="310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示演 堂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02400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07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47720"/>
            <a:ext cx="72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移位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熟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-169"/>
          <a:stretch/>
        </p:blipFill>
        <p:spPr>
          <a:xfrm>
            <a:off x="5386320" y="765000"/>
            <a:ext cx="3757680" cy="609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7040" y="907200"/>
            <a:ext cx="44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960720" cy="2865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49991" b="56571"/>
          <a:stretch/>
        </p:blipFill>
        <p:spPr>
          <a:xfrm>
            <a:off x="1116000" y="477036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Arial"/>
              </a:rPr>
              <a:t>模块八  其他功能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07d1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87640" cy="146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3645000"/>
            <a:ext cx="2246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8360" y="1627560"/>
            <a:ext cx="23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试分析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梯形图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2473200" y="3090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3167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设计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电路，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脉冲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一个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彩灯移位是否移位，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左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或右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将彩灯的初值设定为十六进制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F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设计出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8560" y="2059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228"/>
          <a:stretch/>
        </p:blipFill>
        <p:spPr>
          <a:xfrm>
            <a:off x="1258920" y="2565360"/>
            <a:ext cx="7129440" cy="152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8243640" cy="1590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03480" y="616500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右移指令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524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左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9850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7320" y="4508640"/>
            <a:ext cx="8356680" cy="1596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37280" y="622224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2600" y="213264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带进位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13800" cy="153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14598" r="0" b="7462"/>
          <a:stretch/>
        </p:blipFill>
        <p:spPr>
          <a:xfrm>
            <a:off x="611280" y="4292640"/>
            <a:ext cx="8532720" cy="152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97560" y="609192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右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带进位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833760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920" y="616500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8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位右移和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488360" cy="165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14324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22920" y="4344840"/>
            <a:ext cx="422424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210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32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6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3440" y="17722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解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5400" y="1322280"/>
            <a:ext cx="6551280" cy="144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184720" cy="5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30080" y="3689280"/>
          <a:ext cx="8317080" cy="3057480"/>
        </p:xfrm>
        <a:graphic>
          <a:graphicData uri="http://schemas.openxmlformats.org/drawingml/2006/table">
            <a:tbl>
              <a:tblPr/>
              <a:tblGrid>
                <a:gridCol w="1513080"/>
                <a:gridCol w="2092320"/>
                <a:gridCol w="4711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3200" y="179820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6516720" cy="146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608720" cy="5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817560" y="3645000"/>
          <a:ext cx="7772040" cy="3107880"/>
        </p:xfrm>
        <a:graphic>
          <a:graphicData uri="http://schemas.openxmlformats.org/drawingml/2006/table">
            <a:tbl>
              <a:tblPr/>
              <a:tblGrid>
                <a:gridCol w="3894840"/>
                <a:gridCol w="3877200"/>
              </a:tblGrid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0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1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1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1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1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0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8560" y="1627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交替输出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83628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60" y="2205000"/>
            <a:ext cx="5292720" cy="117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2263" r="56064" b="0"/>
          <a:stretch/>
        </p:blipFill>
        <p:spPr>
          <a:xfrm>
            <a:off x="900000" y="3500280"/>
            <a:ext cx="40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49900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44340" t="-16513" r="0" b="0"/>
          <a:stretch/>
        </p:blipFill>
        <p:spPr>
          <a:xfrm>
            <a:off x="684360" y="4581360"/>
            <a:ext cx="439092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5950080"/>
            <a:ext cx="4645080" cy="761760"/>
          </a:xfrm>
          <a:prstGeom prst="wedgeRoundRectCallout">
            <a:avLst>
              <a:gd name="adj1" fmla="val 54680"/>
              <a:gd name="adj2" fmla="val -2395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控制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0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10T02:05:17Z</dcterms:modified>
  <cp:revision>132</cp:revision>
  <dc:subject/>
  <dc:title>模块二  S7-200系列PLC的基本结构 </dc:title>
</cp:coreProperties>
</file>